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D687-EEB9-4604-B5F5-F376F325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67FE-28CE-4FFF-A3DA-0479B455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87644-26B1-45A7-9D19-15351841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59A60-48F7-4D07-B453-E42BAC7A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2F14B-CFDE-4AD7-935D-6A3916E3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42F0C-E5B8-4066-87B1-162D0777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254E5-36BA-441B-AEC6-A883C170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04104-81BA-492A-89DC-F1255C16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678F5-1B4C-463A-B600-E1490A39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C8110-212C-4DE4-9B3F-BB9F3C36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0F87C-8FCD-4EBE-BAA5-E5CD2B90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BE17-CF40-4455-B3D4-DB227982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9BB-441C-489C-8464-6D9D32C8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7C97-0F09-46FA-8240-120B3F92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C8F9-707B-4090-9B0D-0D2E1692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288C-0213-4CB2-A7F2-5E307D8A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F1CE-0BAE-4FF1-B4CB-1C4E72D2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CA6B-FBA4-4EA6-B6F0-D482293F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FDCC-A10E-4B64-80F6-DFDBB0DB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7D8A-639A-449A-B33D-7869AAB4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53A7-BA1A-4A97-AF92-44EB9689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D473-23FE-43DA-AAE7-10ADA1E1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230B-B9EB-43B8-841A-298A4D8B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4064-9C1B-4727-985F-81EDA24B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ECD3-41DA-4FBB-A2BD-BD5FC556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2B89-EF99-4C4E-8740-999296FC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27351-B876-4C07-AF5E-2C92CEE4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EDF8C-230E-4F7F-B0FF-9E2E24F8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9B86D-9259-4BDE-8368-9B51E786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27F8E-6ACE-4A8E-81C7-FBA80823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133E2-FB9B-4DCB-8E9E-34B4512A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1BA0-6666-4817-9277-52C4E7AC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51179-0E1A-495A-9A33-8D68B9DC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5918B-E977-4F3F-8D8A-FA91FF57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AFD0D-AA62-4A72-8592-B3E116D2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A37BC-3FDB-44E5-A013-64B7D694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6B9D8-253E-4AA5-8C82-3C5CDD48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CB9ED-7652-44E0-B5FC-3E67CAE9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41F0D-547B-4D6F-A222-A9675005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94068-FEF2-46FC-B9F1-5AC2F97C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FFFAC-6C79-40EB-B607-955F973A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6103D-3912-4CD6-829A-9761CBF4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CA9-5E20-4627-B2BF-9F42F389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FBAF1-842E-4BCD-827A-B7E504CE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1E154-EA7A-476D-BCDB-787B89F5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70420-9DC1-4127-BCBD-EDDF9C35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F06E0-ADF8-424B-870E-C8C6B0D9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6A3CF-CE74-43D0-A640-344F6B02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9DD6E-5562-4D1A-B87A-A01B00DF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0E16D-E56D-44C1-9B3B-93269B7B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0B4CF-AADA-4933-A148-F37CCD87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040D3-C40A-467C-B73B-46978F1D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7B320-BE6E-4A13-B877-212D2F54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C19E-928C-4424-ADAE-05A91FFB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93CBC-B28B-402F-8653-CB07D3A7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DE276-BB27-4219-98B0-82406681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4405C-CDE4-43FE-AF31-DFC776C6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7D3D1-4C7D-46DB-80C2-A1D951C1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E0578-0278-4F61-BC0E-E8155650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E0913-1E84-4833-A554-D25F34FB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1AAD7-39E5-49C0-944A-61459B79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3CA8E-C440-4C1C-A979-BD73B219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69C14-6F17-4C45-8FAF-1E9B817A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C6640-E71A-47B2-991F-7A4D3E27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293C-E428-4897-AA7D-03B68CF5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7E946-04D8-4A4A-B108-FC8F8EDE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3FB51-3A1E-4267-817A-DD21658B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AF19C-85BD-47A6-8E7A-58274E4F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B2F13-DA2E-41D8-9EF5-CF46F95F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7E45A-ACCA-42EC-87BA-113F1B88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3FB64-2382-4102-A88E-7A6E50D1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FCE3A-6C92-4CCA-8499-0CE57067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2313A-CBA4-4E1F-9860-8D57BB83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FFADF-C881-4799-A66B-A4FAFB38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765A5-FCC3-4A2F-B5D7-5CDD948E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AFD-8F2D-43DE-A71D-D452B0C8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D3510-8018-40C8-9B75-37CF5F89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E523C-83B9-4CBA-AFC2-5CEC6C72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D92C4-52E9-4D67-9D15-226C7CD3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21D7E-2ABB-4177-87DE-60A8FCC6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94C39-812E-4DA2-988C-1D99DC93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085C5-F7A2-465B-AD9D-E36BFA5C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0B29D-2657-4337-A185-03BAAA6F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E7401-A98B-4ADD-B070-725910FA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FFBDA-5998-4471-BE75-66E1211F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1D5CE-2380-466C-90E9-BD9C654E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74EA-1411-4B88-B0CA-EF2B2032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570CB-EA3A-4074-A706-A48A3689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95028-871D-44C1-B32A-7D0E03C7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22D5A-E19E-421C-8FE9-06FF0698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D1E87-EEB5-4F6F-B706-5CEF65D4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15DC4-F1D5-40F3-87E3-EC370F40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9ACB3-318E-4F1F-B66C-D824F78F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19E24-BA4B-4C2B-994A-4723862A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4292F-3B3E-442B-ACBE-54D956FD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85EE4-4E35-4E19-BBE3-1C50CC98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54FED-2ED1-43A8-9A66-4FFBC7B0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40D4-EAFA-47ED-B188-5C5885FC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F765B-52DF-4A17-9BCF-8DFB878A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CF723-F219-48EF-91FA-9E6A4E3D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AA66F-A23C-4889-AC54-00D9E416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C1B0C-EF9A-4A25-9836-E2D3AB10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0B856-0ECA-4F45-B2EF-299C33E2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ABC21-8109-48A4-90FA-BFF512ED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21BA3-03F5-497D-8FE8-715A8755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1A16B-5DA0-414A-9BB8-3CE2C541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94091-28BB-4416-9CA3-30C6426F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ECD42-1499-47DE-8A57-27B5501A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FFBF-078A-4E0F-B56F-045E5B65C2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Click to edit the title text format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62E0-351B-4292-8A95-47C2B97AB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28F1-191E-45C2-BCBB-B8143EEAE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B318-3377-4391-A126-7BA90A443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FB87-CB00-4F41-ADEB-B88EC8C07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D2DD-4E62-4B04-A6CD-6666AD791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A274-AFA0-45D5-9DAE-CE8F9ADA29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6C4A-AF84-41FD-A543-1E475C0D8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C08D-405A-429D-A9B8-C26902F92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3.4: Transformations of Graphs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30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Vertical stretching and shrinking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or divide the entire function to shrink or stretc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begin with y=f(x), you will end up with y=c*f(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3657600" y="1828800"/>
            <a:ext cx="42861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Horizontal stretching and shrinking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with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o y=f(c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is the amount of shrinking or stre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rcRect l="5334" t="-1969" r="5780" b="0"/>
          <a:stretch/>
        </p:blipFill>
        <p:spPr>
          <a:xfrm>
            <a:off x="4343400" y="1676520"/>
            <a:ext cx="38098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Reflection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flect across the x-axis, change y=f(x) to y= -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flect across the y-axis, change y=f(x) to y=f(-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rcRect l="5230" t="0" r="5880" b="0"/>
          <a:stretch/>
        </p:blipFill>
        <p:spPr>
          <a:xfrm>
            <a:off x="4648320" y="1219320"/>
            <a:ext cx="3886200" cy="39337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"/>
          <a:srcRect l="6976" t="0" r="5880" b="0"/>
          <a:stretch/>
        </p:blipFill>
        <p:spPr>
          <a:xfrm>
            <a:off x="4724280" y="1143000"/>
            <a:ext cx="38102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Try these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across each 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4495680" y="1295280"/>
            <a:ext cx="33512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Summary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with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up: y=f(x)+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down: y=f(x)-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left: y=f(x+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right: y=f(x-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rink or stretch vertically: y=c*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rink or stretch horizontally: y=f(c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across x-axis: y=-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across y-axis: y=f(-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Your assignment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229-2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-18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-40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Objectives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functions using vertical and horizontal trans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functions using stretching and shr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functions using refl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transform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Vertical shifts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original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r subtract from the whole function to shift up or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oesn’t alter the shape, just the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ift up 3, ad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function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5486400" y="1523880"/>
            <a:ext cx="3191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Another example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for linear equations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2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it up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it dow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4038480" y="2209680"/>
            <a:ext cx="32925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Try this one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4x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dow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33512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Horizontal shifts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hift right, replace x with (x-a), where a is the number of units you want to sh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hift left, replace x with (x+a), where a is the number of units you want to sh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rcRect l="8714" t="0" r="5880" b="0"/>
          <a:stretch/>
        </p:blipFill>
        <p:spPr>
          <a:xfrm>
            <a:off x="4572000" y="1143000"/>
            <a:ext cx="3733920" cy="39337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"/>
          <a:srcRect l="6976" t="-1931" r="5880" b="0"/>
          <a:stretch/>
        </p:blipFill>
        <p:spPr>
          <a:xfrm>
            <a:off x="4419720" y="1143000"/>
            <a:ext cx="380988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Try this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with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3 to the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1 to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3512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Complete in Him"/>
              </a:rPr>
              <a:t>Summary of vertical and horizontal shifts</a:t>
            </a:r>
            <a:endParaRPr b="1" lang="en-US" sz="48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with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ift up: y=f(x)+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ift down: y=f(x)-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ift right: y=f(x-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ift left: y=f(x+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Combining horizontal and vertical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left or right first, then up or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left 2 and up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7:08:52Z</dcterms:created>
  <dc:creator>nuhs</dc:creator>
  <dc:description/>
  <dc:language>en-US</dc:language>
  <cp:lastModifiedBy>nuhs</cp:lastModifiedBy>
  <dcterms:modified xsi:type="dcterms:W3CDTF">2008-01-30T17:54:22Z</dcterms:modified>
  <cp:revision>6</cp:revision>
  <dc:subject/>
  <dc:title>3.4: Transformations of Graphs</dc:title>
</cp:coreProperties>
</file>